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8E0-CBD2-42DB-AE76-0106F9A4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1C23-A1C4-4DDE-BF4A-19B03B2C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434-0E00-43E0-A112-4952A0EF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984-9D00-463A-9B55-8FF0BC6B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C48-FD7A-49A0-8BCB-B2AC718D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C91-FF53-44CE-81FE-C85B715D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EE6-84D2-437D-86AA-0C9F12C6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6CF6-0596-46FD-8C21-062DCA33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22A-0A7A-4276-8A68-F10720C7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412-2728-4692-969F-418C80F9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47E-6B6B-4EA1-A877-D209AD61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4DA-3EB7-4AB5-94EE-A7547C81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8F7B-C3A5-4DBF-B814-9F9025B6F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onnie Campbell</cp:lastModifiedBy>
  <dcterms:modified xsi:type="dcterms:W3CDTF">2002-05-31T22:09:32Z</dcterms:modified>
  <cp:revision>16</cp:revision>
  <dc:subject/>
  <dc:title>No Slide Title</dc:title>
</cp:coreProperties>
</file>